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282B-9A37-4A35-A08B-C8F5C841F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F1BA-44BA-4422-9302-9F165E02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59F8-7F16-4B66-9B07-501F0BF00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7B37-37FE-4D72-BDB5-530ED7438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BE01-0F48-4E87-815B-79DFC7749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AD0B-790E-41DD-BB2E-20C8B164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B6C7-85EE-4ADE-A3A9-EE1E7DFF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5115-BA9E-4C2A-AB77-01B7E236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3118-0CAC-42F8-98A7-EFA137BE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1B9D-52F2-4DAC-B3AB-A2598F7F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237B-7821-4928-930A-5CF0D0FE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8354-FF87-4C12-BB02-2BC02104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1367-6F9F-42A8-9C03-792C7826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AD27-9E3A-4E7D-ACE6-F6616359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C4D7-8CF9-4B0F-9BB0-BFE4CADF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A242-9B94-4BED-8453-26DFA448F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80E5-DC8B-4418-BCB1-8905A5B0D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A684-4B2A-4DEF-8644-818DDB4B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24A7-56EB-4B1C-97D6-5E6A5704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749A-5215-435A-A82B-6281D5DC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EE25-A566-4A41-93A9-3FE51030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6137-1775-496B-9068-EB9C5803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257E-8C7D-41C0-9896-2F2CBD8D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67ED-0CC1-4F2C-85FF-18614D9A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5CF8-6934-4F48-91A9-5F6D727AE3AA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DC7D-4A9B-4ACB-9813-54A69F66ACF1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8D50-0415-40BE-AE24-331CEE98ECE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2C21-2A10-447E-98F7-E7CC649028BB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gannatdonya@gmail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99"/>
                </a:solidFill>
                <a:latin typeface="Times New Roman"/>
              </a:rPr>
              <a:t>آفات اللسان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94280" y="4424400"/>
            <a:ext cx="31068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99"/>
                </a:solidFill>
                <a:latin typeface="Times New Roman"/>
              </a:rPr>
              <a:t>جمع واعدا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99"/>
                </a:solidFill>
                <a:latin typeface="Times New Roman"/>
              </a:rPr>
              <a:t>جنات عبد العزيز دني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1600200"/>
            <a:ext cx="5181840" cy="2895480"/>
          </a:xfrm>
          <a:prstGeom prst="horizontalScroll">
            <a:avLst>
              <a:gd name="adj" fmla="val 19967"/>
            </a:avLst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57240">
            <a:solidFill>
              <a:srgbClr val="b76a03"/>
            </a:solidFill>
            <a:miter/>
          </a:ln>
          <a:effectLst>
            <a:outerShdw dist="17819" dir="2700000" blurRad="0" rotWithShape="0">
              <a:srgbClr val="b76a0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3300"/>
                </a:solidFill>
                <a:latin typeface="Times New Roman"/>
              </a:rPr>
              <a:t>من كتاب إحياء علوم الد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ar-EG" sz="3200" spc="-1" strike="noStrike">
                <a:solidFill>
                  <a:srgbClr val="003300"/>
                </a:solidFill>
                <a:latin typeface="Times New Roman"/>
              </a:rPr>
              <a:t>لأبى حامد الغزال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BCFA-A047-4A98-ABB8-4B454420C697}" type="slidenum">
              <a:t>1</a:t>
            </a:fld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666880" y="277560"/>
            <a:ext cx="51818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eec94"/>
                </a:solidFill>
                <a:latin typeface="Times New Roman"/>
              </a:rPr>
              <a:t>المراء والجدال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2dfb1d"/>
                </a:solidFill>
                <a:latin typeface="Times New Roman"/>
              </a:rPr>
              <a:t>المراء والجدال منهى عنه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2dfb1d"/>
                </a:solidFill>
                <a:latin typeface="Times New Roman"/>
              </a:rPr>
              <a:t> والمراء هو كل اعتراض على كلام الغير بإظهار خلل فيه إم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2dfb1d"/>
                </a:solidFill>
                <a:latin typeface="Times New Roman"/>
              </a:rPr>
              <a:t> فى اللفظ وإما فى المعنى وإما فى قصد المتكلم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فكل كلام سمعته إن كان حقا فصدق به ، وإن كان باطلا أوكذب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 ولم يكن متعلقا بأمور الدين فاسكت عنه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eec94"/>
                </a:solidFill>
                <a:latin typeface="Times New Roman"/>
              </a:rPr>
              <a:t>الجدال عبارة عن أمر يتعلق باظهار المذاهب وتقريرها</a:t>
            </a: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286000" y="1371600"/>
            <a:ext cx="6858000" cy="0"/>
          </a:xfrm>
          <a:prstGeom prst="line">
            <a:avLst/>
          </a:prstGeom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2743200" cy="129528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feec94"/>
            </a:solidFill>
            <a:miter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3300"/>
                </a:solidFill>
                <a:latin typeface="Times New Roman"/>
              </a:rPr>
              <a:t>من آفات اللسا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55E8-42D5-4E35-8A40-1473EF5560DD}" type="slidenum">
              <a:t>10</a:t>
            </a:fld>
          </a:p>
        </p:txBody>
      </p:sp>
    </p:spTree>
  </p:cSld>
  <p:transition spd="med">
    <p:newsflash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50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1500"/>
                            </p:stCondLst>
                            <p:childTnLst>
                              <p:par>
                                <p:cTn id="2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6500"/>
                            </p:stCondLst>
                            <p:childTnLst>
                              <p:par>
                                <p:cTn id="28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2000"/>
                            </p:stCondLst>
                            <p:childTnLst>
                              <p:par>
                                <p:cTn id="29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750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2500"/>
                            </p:stCondLst>
                            <p:childTnLst>
                              <p:par>
                                <p:cTn id="30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666520" y="277560"/>
            <a:ext cx="5257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eec94"/>
                </a:solidFill>
                <a:latin typeface="Times New Roman"/>
              </a:rPr>
              <a:t>تابع - المراء والجدال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قال الرسول عليه الصلاة والسلام ( لا تمارى أخاك ولا تمازحه ولا تعده موعدا فتخلفه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2dfb1d"/>
                </a:solidFill>
                <a:latin typeface="Times New Roman"/>
              </a:rPr>
              <a:t>وقال أيضا ( من ترك المراء وهومحق له بيت فى أعلى الجنة ، ومن ترك المراء وهو مبطل بنى له بيت فى ربض الجنة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وقال أيضا ( ما ضل قوم بعد أن هداهم الله تعالى إلا أوتوا الجدل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286000" y="1371600"/>
            <a:ext cx="6858000" cy="0"/>
          </a:xfrm>
          <a:prstGeom prst="line">
            <a:avLst/>
          </a:prstGeom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2743200" cy="129528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feec94"/>
            </a:solidFill>
            <a:miter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3300"/>
                </a:solidFill>
                <a:latin typeface="Times New Roman"/>
              </a:rPr>
              <a:t>من آفات اللسا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EF09-267E-4FA0-93E1-04B0FF70BF11}" type="slidenum">
              <a:t>11</a:t>
            </a:fld>
          </a:p>
        </p:txBody>
      </p:sp>
    </p:spTree>
  </p:cSld>
  <p:transition spd="med">
    <p:newsflash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5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95480" y="277560"/>
            <a:ext cx="4572000" cy="86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eec94"/>
                </a:solidFill>
                <a:latin typeface="Times New Roman"/>
              </a:rPr>
              <a:t>الخصومة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2dfb1d"/>
                </a:solidFill>
                <a:latin typeface="Times New Roman"/>
              </a:rPr>
              <a:t>هى أيضا مذمومة مثل المراء والجدال، وهى لجاج فى الكلام ليستوفى ب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2dfb1d"/>
                </a:solidFill>
                <a:latin typeface="Times New Roman"/>
              </a:rPr>
              <a:t> </a:t>
            </a:r>
            <a:r>
              <a:rPr b="1" lang="ar-EG" sz="2800" spc="-1" strike="noStrike">
                <a:solidFill>
                  <a:srgbClr val="2dfb1d"/>
                </a:solidFill>
                <a:latin typeface="Times New Roman"/>
              </a:rPr>
              <a:t>الحال للحق ، وذلك تارة يكون إبتداء وتارة يكون إعتراض والمراء</a:t>
            </a:r>
            <a:r>
              <a:rPr b="1" lang="ar-EG" sz="2800" spc="-1" strike="noStrike">
                <a:solidFill>
                  <a:srgbClr val="2dfb1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2dfb1d"/>
                </a:solidFill>
                <a:latin typeface="Times New Roman"/>
              </a:rPr>
              <a:t>لايكون إلا باعتراض على كلام سبق</a:t>
            </a:r>
            <a:r>
              <a:rPr b="1" lang="ar-EG" sz="2800" spc="-1" strike="noStrike">
                <a:solidFill>
                  <a:srgbClr val="2dfb1d"/>
                </a:solidFill>
                <a:latin typeface="Times New Roman"/>
              </a:rPr>
              <a:t> </a:t>
            </a:r>
            <a:r>
              <a:rPr b="1" lang="ar-EG" sz="2800" spc="-1" strike="noStrike">
                <a:solidFill>
                  <a:srgbClr val="2dfb1d"/>
                </a:solidFill>
                <a:latin typeface="Times New Roman"/>
              </a:rPr>
              <a:t>.</a:t>
            </a: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فإذا كان للإنسان حق فلابد له من الخصومة فى طلبه فهل تذم خصومته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 إن الذم يتناول الذى يخاصم بغير علم ، أما المظلوم الذى ينصر حجته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بطريق الشرع من غير إسراف وزيادة لجاج على قدر الحاجة ومن غي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 قصد عناد وإيذاء ففعله ليس حرام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2dfb1d"/>
                </a:solidFill>
                <a:latin typeface="Times New Roman"/>
              </a:rPr>
              <a:t>قال الرسول عليه الصلاة والسلام ( إتقوا النار ولو بشق تمرة فإن لم تجدوا فبكلمة طيبة )</a:t>
            </a:r>
            <a:r>
              <a:rPr b="1" lang="ar-EG" sz="2800" spc="-1" strike="noStrike">
                <a:solidFill>
                  <a:srgbClr val="2dfb1d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286000" y="1371600"/>
            <a:ext cx="6858000" cy="0"/>
          </a:xfrm>
          <a:prstGeom prst="line">
            <a:avLst/>
          </a:prstGeom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2743200" cy="129528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feec94"/>
            </a:solidFill>
            <a:miter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3300"/>
                </a:solidFill>
                <a:latin typeface="Times New Roman"/>
              </a:rPr>
              <a:t>من آفات اللسا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399F-6B33-4D94-92BA-8D65D2FBC30B}" type="slidenum">
              <a:t>12</a:t>
            </a:fld>
          </a:p>
        </p:txBody>
      </p:sp>
    </p:spTree>
  </p:cSld>
  <p:transition spd="med">
    <p:newsflash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6500"/>
                            </p:stCondLst>
                            <p:childTnLst>
                              <p:par>
                                <p:cTn id="346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1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750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3000"/>
                            </p:stCondLst>
                            <p:childTnLst>
                              <p:par>
                                <p:cTn id="361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8500"/>
                            </p:stCondLst>
                            <p:childTnLst>
                              <p:par>
                                <p:cTn id="366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400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39500"/>
                            </p:stCondLst>
                            <p:childTnLst>
                              <p:par>
                                <p:cTn id="376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التقعر فى الكلام هو التصنع فيه بالتشبيهات والمقدمات وما جرت به العادة من إظهار التكلف الممقوت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2dfb1d"/>
                </a:solidFill>
                <a:latin typeface="Times New Roman"/>
              </a:rPr>
              <a:t>قال صلى الله عليه وسلم ( إن أبغضكم الذى أبعدكم منى مجلسا الثرثارون المتفيقهون المتشدقون فى الكلام )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286000" y="1371600"/>
            <a:ext cx="6858000" cy="0"/>
          </a:xfrm>
          <a:prstGeom prst="line">
            <a:avLst/>
          </a:prstGeom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2819160" y="30492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eec94"/>
                </a:solidFill>
                <a:latin typeface="Times New Roman"/>
              </a:rPr>
              <a:t>التقعر فى الكلام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2743200" cy="129528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feec94"/>
            </a:solidFill>
            <a:miter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3300"/>
                </a:solidFill>
                <a:latin typeface="Times New Roman"/>
              </a:rPr>
              <a:t>من آفات اللسا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2D42-2E3D-466A-BE7A-E87B38954F60}" type="slidenum">
              <a:t>13</a:t>
            </a:fld>
          </a:p>
        </p:txBody>
      </p:sp>
    </p:spTree>
  </p:cSld>
  <p:transition spd="med">
    <p:newsflash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000"/>
                            </p:stCondLst>
                            <p:childTnLst>
                              <p:par>
                                <p:cTn id="395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666880" y="609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584280"/>
            <a:ext cx="18432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14600" y="277560"/>
            <a:ext cx="60199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eec94"/>
                </a:solidFill>
                <a:latin typeface="Times New Roman"/>
              </a:rPr>
              <a:t>الفحش والسب وبذاءة اللسان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2dfb1d"/>
                </a:solidFill>
                <a:latin typeface="Times New Roman"/>
              </a:rPr>
              <a:t>وهو مذموم ومنهى عنه ومصدر الخبث واللؤم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2dfb1d"/>
                </a:solidFill>
                <a:latin typeface="Times New Roman"/>
              </a:rPr>
              <a:t>قال صلى الله عليه وسلم ( ليس المؤمن بالطعان ولا اللعان ولا الفحاش ولا البذئ )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وقال كذلك ( سباب المؤمن فسوق وقتاله كفر )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eec94"/>
                </a:solidFill>
                <a:latin typeface="Times New Roman"/>
              </a:rPr>
              <a:t>وقال أيضا ( من أكبر الكبائر أن يسب الرجل والديه ، قالوا يا رسول الله كيف يسب الرجل والديه ، قال يسب الرجل أبا الرجل فيسب الآخرأباه )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286000" y="1371600"/>
            <a:ext cx="6858000" cy="0"/>
          </a:xfrm>
          <a:prstGeom prst="line">
            <a:avLst/>
          </a:prstGeom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2743200" cy="144792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feec94"/>
            </a:solidFill>
            <a:miter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3300"/>
                </a:solidFill>
                <a:latin typeface="Times New Roman"/>
              </a:rPr>
              <a:t>من آفات اللسا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817A-CFFD-4865-A808-B69D73251704}" type="slidenum">
              <a:t>14</a:t>
            </a:fld>
          </a:p>
        </p:txBody>
      </p:sp>
    </p:spTree>
  </p:cSld>
  <p:transition spd="med">
    <p:newsflash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6500"/>
                            </p:stCondLst>
                            <p:childTnLst>
                              <p:par>
                                <p:cTn id="41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7500"/>
                            </p:stCondLst>
                            <p:childTnLst>
                              <p:par>
                                <p:cTn id="42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42840" y="277560"/>
            <a:ext cx="480060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eec94"/>
                </a:solidFill>
                <a:latin typeface="Times New Roman"/>
              </a:rPr>
              <a:t>اللعن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eec94"/>
                </a:solidFill>
                <a:latin typeface="Times New Roman"/>
              </a:rPr>
              <a:t>اللعن يكون سواء لحيوان أو جماد أو إنسان كل ذلك مذموم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2dfb1d"/>
                </a:solidFill>
                <a:latin typeface="Times New Roman"/>
              </a:rPr>
              <a:t>قال رسول الله صلى الله عليه وسلم ( المؤمن ليس بلعان )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لا يجوز لعن إلا من لعنه الله وأعلن كفره أو مات على الكف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 كفرعون و أبو جهل . وإلا قد نتعرض للخطر فإننا لو لعن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 زيدا من الناس وهو يهودى مثلا فإنه ربما يسلم فيموت مقربا عند الله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286000" y="1371600"/>
            <a:ext cx="6858000" cy="0"/>
          </a:xfrm>
          <a:prstGeom prst="line">
            <a:avLst/>
          </a:prstGeom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2743200" cy="137160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feec94"/>
            </a:solidFill>
            <a:miter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3300"/>
                </a:solidFill>
                <a:latin typeface="Times New Roman"/>
              </a:rPr>
              <a:t>من آفات اللسا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E018-8EF1-431C-9A8D-2396842295F8}" type="slidenum">
              <a:t>15</a:t>
            </a:fld>
          </a:p>
        </p:txBody>
      </p:sp>
    </p:spTree>
  </p:cSld>
  <p:transition spd="med">
    <p:newsflash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6500"/>
                            </p:stCondLst>
                            <p:childTnLst>
                              <p:par>
                                <p:cTn id="44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7500"/>
                            </p:stCondLst>
                            <p:childTnLst>
                              <p:par>
                                <p:cTn id="45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3000"/>
                            </p:stCondLst>
                            <p:childTnLst>
                              <p:par>
                                <p:cTn id="45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742840" y="277560"/>
            <a:ext cx="5181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eec94"/>
                </a:solidFill>
                <a:latin typeface="Times New Roman"/>
              </a:rPr>
              <a:t>تابع - اللعن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2dfb1d"/>
                </a:solidFill>
                <a:latin typeface="Times New Roman"/>
              </a:rPr>
              <a:t>الصفات المقتضية اللعن ثلاثة : الكفر والبدعة والفسق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قال الرسول صلى الله عليه وسلم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 (أنهاك أن تشتم مسلما أو تعصى إماما عادلا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eec94"/>
                </a:solidFill>
                <a:latin typeface="Times New Roman"/>
              </a:rPr>
              <a:t>والتعرض للأموات أشد ، ويقرب من اللعن الدعاء على الإنسان بالشر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286000" y="1371600"/>
            <a:ext cx="6858000" cy="0"/>
          </a:xfrm>
          <a:prstGeom prst="line">
            <a:avLst/>
          </a:prstGeom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2743200" cy="129528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feec94"/>
            </a:solidFill>
            <a:miter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3300"/>
                </a:solidFill>
                <a:latin typeface="Times New Roman"/>
              </a:rPr>
              <a:t>من آفات اللسا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70B2-6E60-491A-A826-7D78B3965CF0}" type="slidenum">
              <a:t>16</a:t>
            </a:fld>
          </a:p>
        </p:txBody>
      </p:sp>
    </p:spTree>
  </p:cSld>
  <p:transition spd="med">
    <p:newsflash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6500"/>
                            </p:stCondLst>
                            <p:childTnLst>
                              <p:par>
                                <p:cTn id="47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7500"/>
                            </p:stCondLst>
                            <p:childTnLst>
                              <p:par>
                                <p:cTn id="48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95280" y="380880"/>
            <a:ext cx="221004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286000" y="1371600"/>
            <a:ext cx="6858000" cy="0"/>
          </a:xfrm>
          <a:prstGeom prst="line">
            <a:avLst/>
          </a:prstGeom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19520" y="277560"/>
            <a:ext cx="44193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eec94"/>
                </a:solidFill>
                <a:latin typeface="Times New Roman"/>
              </a:rPr>
              <a:t>المزاح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cc"/>
                </a:solidFill>
                <a:latin typeface="Times New Roman"/>
              </a:rPr>
              <a:t>المزاح أصله مذموم منهى عنه إلا قدرا يسيرا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قال صلى الله عليه وسلم ( لا تمارأخاك ولا تمازحه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2dfb1d"/>
                </a:solidFill>
                <a:latin typeface="Times New Roman"/>
              </a:rPr>
              <a:t>إن المماراه فيها إيذاء لأن فيها تكذيبا للأخ والصديق أو تجهيلا له 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وأما المزاح فإن المنهى عنه الإفراط فيه أو المداومة عليه لأنه يورث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 اللعب والهزل وكثرة الضحك التى تميت القلب وتورث الضغينة ،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وتسقط المهابة والوقار فى بعض الاحيان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2dfb1d"/>
                </a:solidFill>
                <a:latin typeface="Times New Roman"/>
              </a:rPr>
              <a:t>وقال المصطفى صلى الله عليه وسلم ( إنى لأمزح ولا أقول إلا حقا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2743200" cy="137160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feec94"/>
            </a:solidFill>
            <a:miter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3300"/>
                </a:solidFill>
                <a:latin typeface="Times New Roman"/>
              </a:rPr>
              <a:t>من آفات اللسا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39CA-B05B-416D-B8BE-C90157C62EA5}" type="slidenum">
              <a:t>17</a:t>
            </a:fld>
          </a:p>
        </p:txBody>
      </p:sp>
    </p:spTree>
  </p:cSld>
  <p:transition spd="med">
    <p:newsflash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6500"/>
                            </p:stCondLst>
                            <p:childTnLst>
                              <p:par>
                                <p:cTn id="506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7500"/>
                            </p:stCondLst>
                            <p:childTnLst>
                              <p:par>
                                <p:cTn id="516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3000"/>
                            </p:stCondLst>
                            <p:childTnLst>
                              <p:par>
                                <p:cTn id="521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8500"/>
                            </p:stCondLst>
                            <p:childTnLst>
                              <p:par>
                                <p:cTn id="526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4000"/>
                            </p:stCondLst>
                            <p:childTnLst>
                              <p:par>
                                <p:cTn id="531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743200" y="277560"/>
            <a:ext cx="5410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eec94"/>
                </a:solidFill>
                <a:latin typeface="Times New Roman"/>
              </a:rPr>
              <a:t>السخرية والاستهزاء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2dfb1d"/>
                </a:solidFill>
                <a:latin typeface="Times New Roman"/>
              </a:rPr>
              <a:t>وهذا محرم كما قال تعالى ( يا أيها الذين آمنوا لا يسخر قوم من قو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2dfb1d"/>
                </a:solidFill>
                <a:latin typeface="Times New Roman"/>
              </a:rPr>
              <a:t> عسى أن يكونوا خيرا منهم ولا نساء من نساء عسى أن يكن خيرا منهن )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ومعنى السخرية الاستهانة والتحقير والتنبيه على العيوب والنقائص ،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على وجه يضحك منه ، وقد يكون هذا بالمحاكاه فى الفعل والقول ،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وقد يكون بالإشارة والايماء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cc"/>
                </a:solidFill>
                <a:latin typeface="Times New Roman"/>
              </a:rPr>
              <a:t>قال رسول الله صلى الله عليه وسلم ( من عير أخاه بذنب قد تاب منه ل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cc"/>
                </a:solidFill>
                <a:latin typeface="Times New Roman"/>
              </a:rPr>
              <a:t>يمت حتى يعمله )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286000" y="1371600"/>
            <a:ext cx="6858000" cy="0"/>
          </a:xfrm>
          <a:prstGeom prst="line">
            <a:avLst/>
          </a:prstGeom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2743200" cy="137160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feec94"/>
            </a:solidFill>
            <a:miter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3300"/>
                </a:solidFill>
                <a:latin typeface="Times New Roman"/>
              </a:rPr>
              <a:t>من آفات اللسا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787E-4831-4A2A-BFC4-C810307444DE}" type="slidenum">
              <a:t>18</a:t>
            </a:fld>
          </a:p>
        </p:txBody>
      </p:sp>
    </p:spTree>
  </p:cSld>
  <p:transition spd="med">
    <p:newsflash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6500"/>
                            </p:stCondLst>
                            <p:childTnLst>
                              <p:par>
                                <p:cTn id="550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5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7500"/>
                            </p:stCondLst>
                            <p:childTnLst>
                              <p:par>
                                <p:cTn id="560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3000"/>
                            </p:stCondLst>
                            <p:childTnLst>
                              <p:par>
                                <p:cTn id="565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8500"/>
                            </p:stCondLst>
                            <p:childTnLst>
                              <p:par>
                                <p:cTn id="570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34000"/>
                            </p:stCondLst>
                            <p:childTnLst>
                              <p:par>
                                <p:cTn id="575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742840" y="277560"/>
            <a:ext cx="4724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eec94"/>
                </a:solidFill>
                <a:latin typeface="Times New Roman"/>
              </a:rPr>
              <a:t>إفشاء السر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cc"/>
                </a:solidFill>
                <a:latin typeface="Times New Roman"/>
              </a:rPr>
              <a:t>وهو منهى عنه لما فيه من الإيذاء والتهاون بحق المعارف والأصدقاء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2dfb1d"/>
                </a:solidFill>
                <a:latin typeface="Times New Roman"/>
              </a:rPr>
              <a:t>قال رسول الله صلى الله عليه وسلم ( إذا حدث الرجل الحديث بينكم ثم التفت فهى أمانة )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وهو حرام إذا كان فيه إضرار ، ولؤم إن لم يكن فيه اضرار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286000" y="1371600"/>
            <a:ext cx="6858000" cy="0"/>
          </a:xfrm>
          <a:prstGeom prst="line">
            <a:avLst/>
          </a:prstGeom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2743200" cy="129528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feec94"/>
            </a:solidFill>
            <a:miter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3300"/>
                </a:solidFill>
                <a:latin typeface="Times New Roman"/>
              </a:rPr>
              <a:t>من آفات اللسا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04B8-F768-4A18-8BE8-72BE18888C5D}" type="slidenum">
              <a:t>19</a:t>
            </a:fld>
          </a:p>
        </p:txBody>
      </p:sp>
    </p:spTree>
  </p:cSld>
  <p:transition spd="med">
    <p:newsflash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6500"/>
                            </p:stCondLst>
                            <p:childTnLst>
                              <p:par>
                                <p:cTn id="59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43200" y="304920"/>
            <a:ext cx="51055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eec94"/>
                </a:solidFill>
                <a:latin typeface="Times New Roman"/>
              </a:rPr>
              <a:t>كلام ذى اللسانين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قال رسول الله صلى الله عليه وسلم : ( من كان له وجهان فى الدنيا كان له لسانان من النار يوم القيامة )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2dfb1d"/>
                </a:solidFill>
                <a:latin typeface="Times New Roman"/>
              </a:rPr>
              <a:t>اذا دخل رجل على متعاديين وجامل كل واحد منهما ، وكان صادقا فيه لم يكن منافقا ولا ذا لسانين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eec94"/>
                </a:solidFill>
                <a:latin typeface="Times New Roman"/>
              </a:rPr>
              <a:t>أما لو نقل الشخص كلام كل واحد منهما إلى الآخر فهو ذا لسانين وهو شر من النميمة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209680" y="1371600"/>
            <a:ext cx="6934320" cy="0"/>
          </a:xfrm>
          <a:prstGeom prst="line">
            <a:avLst/>
          </a:prstGeom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2743200" cy="137160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feec94"/>
            </a:solidFill>
            <a:miter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3300"/>
                </a:solidFill>
                <a:latin typeface="Times New Roman"/>
              </a:rPr>
              <a:t>من آفات اللسا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1E73-C790-4A96-83C3-56D07DD7A103}" type="slidenum">
              <a:t>2</a:t>
            </a:fld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743200" y="277560"/>
            <a:ext cx="4648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eec94"/>
                </a:solidFill>
                <a:latin typeface="Times New Roman"/>
              </a:rPr>
              <a:t>الوعد الكاذب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99"/>
                </a:solidFill>
                <a:latin typeface="Times New Roman"/>
              </a:rPr>
              <a:t>قال تعالى (</a:t>
            </a:r>
            <a:r>
              <a:rPr b="1" lang="ar-SA" sz="3200" spc="-1" strike="noStrike">
                <a:solidFill>
                  <a:srgbClr val="ffff99"/>
                </a:solidFill>
                <a:latin typeface="Times New Roman"/>
              </a:rPr>
              <a:t>وَلَا تَقْرَبُوا مَالَ الْيَتِيمِ إِل</a:t>
            </a:r>
            <a:r>
              <a:rPr b="1" lang="ar-EG" sz="3200" spc="-1" strike="noStrike">
                <a:solidFill>
                  <a:srgbClr val="ffff99"/>
                </a:solidFill>
                <a:latin typeface="Times New Roman"/>
              </a:rPr>
              <a:t>ا</a:t>
            </a:r>
            <a:r>
              <a:rPr b="1" lang="ar-SA" sz="3200" spc="-1" strike="noStrike">
                <a:solidFill>
                  <a:srgbClr val="ffff99"/>
                </a:solidFill>
                <a:latin typeface="Times New Roman"/>
              </a:rPr>
              <a:t> بِالَّتِي هِيَ أَحْسَنُ حَتَّى يَبْلُغَ أَشُدَّهُ وَأَوْفُوا بِالْعَهْدِ إِنَّ الْعَهْدَ كَانَ مَسْئُو</a:t>
            </a:r>
            <a:r>
              <a:rPr b="1" lang="ar-EG" sz="3200" spc="-1" strike="noStrike">
                <a:solidFill>
                  <a:srgbClr val="ffff99"/>
                </a:solidFill>
                <a:latin typeface="Times New Roman"/>
              </a:rPr>
              <a:t>لا ) الإسراء : </a:t>
            </a:r>
            <a:r>
              <a:rPr b="1" lang="ar-EG" sz="3200" spc="-1" strike="noStrike">
                <a:solidFill>
                  <a:srgbClr val="ffff99"/>
                </a:solidFill>
                <a:latin typeface="Times New Roman"/>
              </a:rPr>
              <a:t>3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2dfb1d"/>
                </a:solidFill>
                <a:latin typeface="Times New Roman"/>
              </a:rPr>
              <a:t>وقد أثنى الله تعالى على نبيه إسماعيل عليه السلام فقال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2dfb1d"/>
                </a:solidFill>
                <a:latin typeface="Times New Roman"/>
              </a:rPr>
              <a:t>( إنه كان صادق الوعد ) قيل إنه وعد إنسانا فى موضع فلم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2dfb1d"/>
                </a:solidFill>
                <a:latin typeface="Times New Roman"/>
              </a:rPr>
              <a:t>يرجع إليه الإنسان بل نسى ، فبقى إسماعيل إثنين وعشرين يوما فى انتظاره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 وقال أبو هريرة قال النبى صلى الله عليه وسلم ( ثلاث من كن فيه فهو منافق وإن صام وصلى وزعم أنه مسلم إذا حدث كذب وإذا وعد أخلف وإذا ائتمن خان ) 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2286000" y="1371600"/>
            <a:ext cx="6858000" cy="0"/>
          </a:xfrm>
          <a:prstGeom prst="line">
            <a:avLst/>
          </a:prstGeom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2743200" cy="129528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feec94"/>
            </a:solidFill>
            <a:miter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3300"/>
                </a:solidFill>
                <a:latin typeface="Times New Roman"/>
              </a:rPr>
              <a:t>من آفات اللسا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BADD-EB62-4DF0-A8FD-A86B9371384A}" type="slidenum">
              <a:t>20</a:t>
            </a:fld>
          </a:p>
        </p:txBody>
      </p:sp>
    </p:spTree>
  </p:cSld>
  <p:transition spd="med">
    <p:newsflash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6500"/>
                            </p:stCondLst>
                            <p:childTnLst>
                              <p:par>
                                <p:cTn id="61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7500"/>
                            </p:stCondLst>
                            <p:childTnLst>
                              <p:par>
                                <p:cTn id="62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23000"/>
                            </p:stCondLst>
                            <p:childTnLst>
                              <p:par>
                                <p:cTn id="63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666880" y="277560"/>
            <a:ext cx="51055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eec94"/>
                </a:solidFill>
                <a:latin typeface="Times New Roman"/>
              </a:rPr>
              <a:t>الكذب فى القول واليمين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2dfb1d"/>
                </a:solidFill>
                <a:latin typeface="Times New Roman"/>
              </a:rPr>
              <a:t>قال رسول الله صلى الله عليه وسلم</a:t>
            </a:r>
            <a:r>
              <a:rPr b="1" lang="ar-EG" sz="3200" spc="-1" strike="noStrike">
                <a:solidFill>
                  <a:srgbClr val="2dfb1d"/>
                </a:solidFill>
                <a:latin typeface="Times New Roman"/>
              </a:rPr>
              <a:t> </a:t>
            </a:r>
            <a:r>
              <a:rPr b="1" lang="ar-EG" sz="3200" spc="-1" strike="noStrike">
                <a:solidFill>
                  <a:srgbClr val="2dfb1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2dfb1d"/>
                </a:solidFill>
                <a:latin typeface="Times New Roman"/>
              </a:rPr>
              <a:t>( </a:t>
            </a:r>
            <a:r>
              <a:rPr b="1" lang="ar-EG" sz="3200" spc="-1" strike="noStrike">
                <a:solidFill>
                  <a:srgbClr val="2dfb1d"/>
                </a:solidFill>
                <a:latin typeface="Times New Roman"/>
              </a:rPr>
              <a:t>إياكم والكذب فإنه مع الفجور وهما فى النار</a:t>
            </a:r>
            <a:r>
              <a:rPr b="1" lang="ar-EG" sz="3200" spc="-1" strike="noStrike">
                <a:solidFill>
                  <a:srgbClr val="2dfb1d"/>
                </a:solidFill>
                <a:latin typeface="Times New Roman"/>
              </a:rPr>
              <a:t> </a:t>
            </a:r>
            <a:r>
              <a:rPr b="1" lang="ar-EG" sz="3200" spc="-1" strike="noStrike">
                <a:solidFill>
                  <a:srgbClr val="2dfb1d"/>
                </a:solidFill>
                <a:latin typeface="Times New Roman"/>
              </a:rPr>
              <a:t>)</a:t>
            </a: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وقال أيضا ( كبرت الخيانة أن تحدث أخاك حديثا هو لك به مصدق وأنت له به كاذب )</a:t>
            </a: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286000" y="1371600"/>
            <a:ext cx="6858000" cy="0"/>
          </a:xfrm>
          <a:prstGeom prst="line">
            <a:avLst/>
          </a:prstGeom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2743200" cy="129528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feec94"/>
            </a:solidFill>
            <a:miter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3300"/>
                </a:solidFill>
                <a:latin typeface="Times New Roman"/>
              </a:rPr>
              <a:t>من آفات اللسا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406F-9C88-42B4-A097-B670BA73DAE9}" type="slidenum">
              <a:t>21</a:t>
            </a:fld>
          </a:p>
        </p:txBody>
      </p:sp>
    </p:spTree>
  </p:cSld>
  <p:transition spd="med">
    <p:newsflash/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6500"/>
                            </p:stCondLst>
                            <p:childTnLst>
                              <p:par>
                                <p:cTn id="65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742840" y="304560"/>
            <a:ext cx="5715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eec94"/>
                </a:solidFill>
                <a:latin typeface="Times New Roman"/>
              </a:rPr>
              <a:t>تابع – الكذب فى القول أو اليم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99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يرخص الكذب فى الأحوال الآتية</a:t>
            </a: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9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2dfb1d"/>
                </a:solidFill>
                <a:latin typeface="Times New Roman"/>
              </a:rPr>
              <a:t>عن أم كلثوم قالت ما سمعت رسول الله يرخص فى شيئ من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9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2dfb1d"/>
                </a:solidFill>
                <a:latin typeface="Times New Roman"/>
              </a:rPr>
              <a:t>الكذب إلا فى ثلاث : الرجل يقول القول يريد به الإصلاح 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9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2dfb1d"/>
                </a:solidFill>
                <a:latin typeface="Times New Roman"/>
              </a:rPr>
              <a:t>والرجل يقول القول فى الحرب والرجل يحدث زوجته والمرأة تحدث زوجها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9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eec94"/>
                </a:solidFill>
                <a:latin typeface="Times New Roman"/>
              </a:rPr>
              <a:t>وقال رسول الله صلى الله عليه وسلم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9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eec94"/>
                </a:solidFill>
                <a:latin typeface="Times New Roman"/>
              </a:rPr>
              <a:t>( </a:t>
            </a:r>
            <a:r>
              <a:rPr b="1" lang="ar-EG" sz="3200" spc="-1" strike="noStrike">
                <a:solidFill>
                  <a:srgbClr val="feec94"/>
                </a:solidFill>
                <a:latin typeface="Times New Roman"/>
              </a:rPr>
              <a:t>ليس بكذاب من أصلح بين إثنين فقال خيرا أو نمى خيرا</a:t>
            </a:r>
            <a:r>
              <a:rPr b="1" lang="ar-EG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ar-EG" sz="3200" spc="-1" strike="noStrike">
                <a:solidFill>
                  <a:srgbClr val="feec94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9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2286000" y="1371600"/>
            <a:ext cx="6858000" cy="0"/>
          </a:xfrm>
          <a:prstGeom prst="line">
            <a:avLst/>
          </a:prstGeom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2743200" cy="129528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feec94"/>
            </a:solidFill>
            <a:miter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3300"/>
                </a:solidFill>
                <a:latin typeface="Times New Roman"/>
              </a:rPr>
              <a:t>من آفات اللسا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F214-2F19-42F1-9D2F-B4118C7C3CA1}" type="slidenum">
              <a:t>22</a:t>
            </a:fld>
          </a:p>
        </p:txBody>
      </p:sp>
    </p:spTree>
  </p:cSld>
  <p:transition spd="med">
    <p:newsflash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0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6500"/>
                            </p:stCondLst>
                            <p:childTnLst>
                              <p:par>
                                <p:cTn id="676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1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7500"/>
                            </p:stCondLst>
                            <p:childTnLst>
                              <p:par>
                                <p:cTn id="686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3000"/>
                            </p:stCondLst>
                            <p:childTnLst>
                              <p:par>
                                <p:cTn id="691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28500"/>
                            </p:stCondLst>
                            <p:childTnLst>
                              <p:par>
                                <p:cTn id="696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743200" y="277560"/>
            <a:ext cx="449568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eec94"/>
                </a:solidFill>
                <a:latin typeface="Times New Roman"/>
              </a:rPr>
              <a:t>الغيبة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2dfb1d"/>
                </a:solidFill>
                <a:latin typeface="Times New Roman"/>
              </a:rPr>
              <a:t>نص الله تعالى على ذمها فى كتابه وشبه صاحبها بآكل اللحم ( </a:t>
            </a:r>
            <a:r>
              <a:rPr b="1" lang="ar-SA" sz="2400" spc="-1" strike="noStrike">
                <a:solidFill>
                  <a:srgbClr val="2dfb1d"/>
                </a:solidFill>
                <a:latin typeface="Times New Roman"/>
              </a:rPr>
              <a:t>وَل</a:t>
            </a:r>
            <a:r>
              <a:rPr b="1" lang="ar-EG" sz="2400" spc="-1" strike="noStrike">
                <a:solidFill>
                  <a:srgbClr val="2dfb1d"/>
                </a:solidFill>
                <a:latin typeface="Times New Roman"/>
              </a:rPr>
              <a:t>ا</a:t>
            </a:r>
            <a:r>
              <a:rPr b="1" lang="ar-SA" sz="2400" spc="-1" strike="noStrike">
                <a:solidFill>
                  <a:srgbClr val="2dfb1d"/>
                </a:solidFill>
                <a:latin typeface="Times New Roman"/>
              </a:rPr>
              <a:t> يَغْتَبْ بَعْضُكُمْ بَعْضًا أَيُحِبُّ أَحَدُكُمْ أَنْ يَأْكُلَ لَحْمَ أَخِيهِ مَيْتًا فَكَرِهْتُمُوهُ وَاتَّقُوا اللَّهَ إِنَّ اللَّهَ تَوَّابٌ</a:t>
            </a:r>
            <a:r>
              <a:rPr b="1" lang="ar-EG" sz="2400" spc="-1" strike="noStrike">
                <a:solidFill>
                  <a:srgbClr val="2dfb1d"/>
                </a:solidFill>
                <a:latin typeface="Times New Roman"/>
              </a:rPr>
              <a:t> رحيم ) . الحجرات : </a:t>
            </a:r>
            <a:r>
              <a:rPr b="1" lang="ar-EG" sz="2400" spc="-1" strike="noStrike">
                <a:solidFill>
                  <a:srgbClr val="2dfb1d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Times New Roman"/>
              </a:rPr>
              <a:t>وقال صلى الله عليه وسلم ( مررت ليلة أسرى بى على أقوام يخشمو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Times New Roman"/>
              </a:rPr>
              <a:t>وجوههم بأظافيرهم فقلت ياجبريل : من هؤلاء ؟ قال هؤلاء الذين يغتابون الناس ويقعون فى أعراضهم</a:t>
            </a:r>
            <a:r>
              <a:rPr b="1" lang="ar-EG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eec94"/>
                </a:solidFill>
                <a:latin typeface="Times New Roman"/>
              </a:rPr>
              <a:t>ومعنى الغيبة أن تذكر أخاك بما يكرهه لو بلغه ، سواء ذكرته بنقص فى بدنه أو ف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ar-EG" sz="2400" spc="-1" strike="noStrike">
                <a:solidFill>
                  <a:srgbClr val="feec94"/>
                </a:solidFill>
                <a:latin typeface="Times New Roman"/>
              </a:rPr>
              <a:t>خلقه أو فى فعله أو فى قوله أو فى دينه أو فى دنياه، حتى فى ثوبه وداره و دابته</a:t>
            </a:r>
            <a:r>
              <a:rPr b="1" lang="ar-EG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eec94"/>
                </a:solidFill>
                <a:latin typeface="Times New Roman"/>
              </a:rPr>
              <a:t>هذا إن كنت صادقا أما اذا</a:t>
            </a:r>
            <a:r>
              <a:rPr b="1" lang="ar-EG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EG" sz="2400" spc="-1" strike="noStrike">
                <a:solidFill>
                  <a:srgbClr val="feec94"/>
                </a:solidFill>
                <a:latin typeface="Times New Roman"/>
              </a:rPr>
              <a:t>كذبت فإنه بهتان</a:t>
            </a:r>
            <a:r>
              <a:rPr b="1" lang="ar-EG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Times New Roman"/>
              </a:rPr>
              <a:t>والغيبة لا تقتصر على اللسان فقط فالإشارة والإيماء والغمز واللمز والكتابة</a:t>
            </a:r>
            <a:r>
              <a:rPr b="1" lang="ar-EG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Times New Roman"/>
              </a:rPr>
              <a:t>والحركة وكل ما يفهم المقصود فهو داخل فى الغيبة وهو حرام</a:t>
            </a:r>
            <a:r>
              <a:rPr b="1" lang="ar-EG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286000" y="1371600"/>
            <a:ext cx="6858000" cy="0"/>
          </a:xfrm>
          <a:prstGeom prst="line">
            <a:avLst/>
          </a:prstGeom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2743200" cy="129528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feec94"/>
            </a:solidFill>
            <a:miter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3300"/>
                </a:solidFill>
                <a:latin typeface="Times New Roman"/>
              </a:rPr>
              <a:t>من آفات اللسا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101B-B59B-4DAA-A707-04CD0BF43C19}" type="slidenum">
              <a:t>23</a:t>
            </a:fld>
          </a:p>
        </p:txBody>
      </p:sp>
    </p:spTree>
  </p:cSld>
  <p:transition spd="med">
    <p:newsflash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0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6500"/>
                            </p:stCondLst>
                            <p:childTnLst>
                              <p:par>
                                <p:cTn id="715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2000"/>
                            </p:stCondLst>
                            <p:childTnLst>
                              <p:par>
                                <p:cTn id="720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7500"/>
                            </p:stCondLst>
                            <p:childTnLst>
                              <p:par>
                                <p:cTn id="725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23000"/>
                            </p:stCondLst>
                            <p:childTnLst>
                              <p:par>
                                <p:cTn id="730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8500"/>
                            </p:stCondLst>
                            <p:childTnLst>
                              <p:par>
                                <p:cTn id="735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34000"/>
                            </p:stCondLst>
                            <p:childTnLst>
                              <p:par>
                                <p:cTn id="740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39500"/>
                            </p:stCondLst>
                            <p:childTnLst>
                              <p:par>
                                <p:cTn id="745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638680" y="660240"/>
            <a:ext cx="184320" cy="70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660240"/>
            <a:ext cx="184320" cy="70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43200" y="277560"/>
            <a:ext cx="50292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eec94"/>
                </a:solidFill>
                <a:latin typeface="Times New Roman"/>
              </a:rPr>
              <a:t>تابع - الغيبة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0000" rIns="90000" tIns="46800" bIns="46800" anchor="t">
            <a:normAutofit fontScale="82000"/>
          </a:bodyPr>
          <a:p>
            <a:pPr marL="28116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قالت السيدة عائشة رضى الله عنها (دخلت علينا امرأة ، فلما ولت</a:t>
            </a: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أومئت بيدى أنها قصيرة ، فقال عليه الصلاة والسلام : إغتبتها</a:t>
            </a: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eec94"/>
                </a:solidFill>
                <a:latin typeface="Times New Roman"/>
              </a:rPr>
              <a:t>والغيبة تكون بالتعريض لشخص معين ، أما إذا كان فى حق جماعة من الناس فليس بغيبة</a:t>
            </a:r>
            <a:r>
              <a:rPr b="1" lang="ar-EG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ar-EG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EG" sz="2800" spc="-1" strike="noStrike">
                <a:solidFill>
                  <a:srgbClr val="2dfb1d"/>
                </a:solidFill>
                <a:latin typeface="Times New Roman"/>
              </a:rPr>
              <a:t>قال صلى الله عليه وسلم ( من رد عن عرض أخيه بالغيب كان حقا على الله أن يعتقه من النار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 u="sng">
                <a:solidFill>
                  <a:srgbClr val="ffffff"/>
                </a:solidFill>
                <a:uFillTx/>
                <a:latin typeface="Times New Roman"/>
              </a:rPr>
              <a:t>كفارة الغيبة</a:t>
            </a:r>
            <a:r>
              <a:rPr b="1" lang="ar-EG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ar-EG" sz="2800" spc="-1" strike="noStrike" u="sng">
                <a:solidFill>
                  <a:srgbClr val="ffffff"/>
                </a:solidFill>
                <a:uFillTx/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إعلم أن الواجب على المغتاب أن يندم ويتوب ويتأسف على مافعله</a:t>
            </a: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 ،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ليخرج به من حق الله سبحانه وتعالى . قال رسول الله صلى الله عليه</a:t>
            </a: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وسلم ( كفارة من اغتبته أن تستغفر له )</a:t>
            </a: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286000" y="1371600"/>
            <a:ext cx="6858000" cy="0"/>
          </a:xfrm>
          <a:prstGeom prst="line">
            <a:avLst/>
          </a:prstGeom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2743200" cy="129528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feec94"/>
            </a:solidFill>
            <a:miter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3300"/>
                </a:solidFill>
                <a:latin typeface="Times New Roman"/>
              </a:rPr>
              <a:t>من آفات اللسا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23C0-A76A-4BBC-ABE7-45A9A570C8F8}" type="slidenum">
              <a:t>24</a:t>
            </a:fld>
          </a:p>
        </p:txBody>
      </p:sp>
    </p:spTree>
  </p:cSld>
  <p:transition spd="med">
    <p:newsflash/>
  </p:transition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0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6500"/>
                            </p:stCondLst>
                            <p:childTnLst>
                              <p:par>
                                <p:cTn id="76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7500"/>
                            </p:stCondLst>
                            <p:childTnLst>
                              <p:par>
                                <p:cTn id="77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23000"/>
                            </p:stCondLst>
                            <p:childTnLst>
                              <p:par>
                                <p:cTn id="77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28500"/>
                            </p:stCondLst>
                            <p:childTnLst>
                              <p:par>
                                <p:cTn id="78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34000"/>
                            </p:stCondLst>
                            <p:childTnLst>
                              <p:par>
                                <p:cTn id="78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39500"/>
                            </p:stCondLst>
                            <p:childTnLst>
                              <p:par>
                                <p:cTn id="79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43200" y="277560"/>
            <a:ext cx="44956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eec94"/>
                </a:solidFill>
                <a:latin typeface="Times New Roman"/>
              </a:rPr>
              <a:t>النميمة</a:t>
            </a:r>
            <a:r>
              <a:rPr b="1" lang="ar-EG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2dfb1d"/>
                </a:solidFill>
                <a:latin typeface="Times New Roman"/>
              </a:rPr>
              <a:t>قال الله تعالى ( هماز مشاء بنميم ) ، وقال صلى الله علي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2dfb1d"/>
                </a:solidFill>
                <a:latin typeface="Times New Roman"/>
              </a:rPr>
              <a:t> وسلم ( أحبكم الى الله أحاسنكم أخلاقا ، الموطئون أكنافا الذي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2dfb1d"/>
                </a:solidFill>
                <a:latin typeface="Times New Roman"/>
              </a:rPr>
              <a:t> يألفون ويؤلفون ، وأن أبغضكم إلى الله المشاؤون بالنميمة 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2dfb1d"/>
                </a:solidFill>
                <a:latin typeface="Times New Roman"/>
              </a:rPr>
              <a:t> المفرقون بين الإخوان ،الملتمسون للبرءاء العثرات )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والنميمة كأن تقول لشخص فلان يتكلم فيك بكذا وكذا وسواء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كان الكشف بالقول أو بالكتابة أو بالرمز أو بالإيماء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286000" y="1371600"/>
            <a:ext cx="6858000" cy="0"/>
          </a:xfrm>
          <a:prstGeom prst="line">
            <a:avLst/>
          </a:prstGeom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2743200" cy="129528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feec94"/>
            </a:solidFill>
            <a:miter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3300"/>
                </a:solidFill>
                <a:latin typeface="Times New Roman"/>
              </a:rPr>
              <a:t>من آفات اللسا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D36D-66CB-4046-92C0-45D923FCB4E7}" type="slidenum">
              <a:t>25</a:t>
            </a:fld>
          </a:p>
        </p:txBody>
      </p:sp>
    </p:spTree>
  </p:cSld>
  <p:transition spd="med">
    <p:newsflash/>
  </p:transition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0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000"/>
                            </p:stCondLst>
                            <p:childTnLst>
                              <p:par>
                                <p:cTn id="80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6500"/>
                            </p:stCondLst>
                            <p:childTnLst>
                              <p:par>
                                <p:cTn id="81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75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230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85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971440" y="277560"/>
            <a:ext cx="4419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eec94"/>
                </a:solidFill>
                <a:latin typeface="Times New Roman"/>
              </a:rPr>
              <a:t>تابع - النميمة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وكل مارأى الإنسان من أحوال الناس مما يكره ، فينبغى أ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 يسكت عنه ، إلا ما فى حكايته فائدة لمسلم أو دفع لمعصية 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وإن كان ماينم به نقصا وعيبا فى المحكى عنه ، كان قد جمع بين الغيبة والنميمة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eec94"/>
                </a:solidFill>
                <a:latin typeface="Times New Roman"/>
              </a:rPr>
              <a:t>والنمام يجب معاقبته بأن لا يصدق لأنه فاسق مردود الشهاد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eec94"/>
                </a:solidFill>
                <a:latin typeface="Times New Roman"/>
              </a:rPr>
              <a:t> ، وأن يبغض فى الله لأنه بغيض عند الله وأن لا تحك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eec94"/>
                </a:solidFill>
                <a:latin typeface="Times New Roman"/>
              </a:rPr>
              <a:t> نميمته لأنك بذلك تكون قد رضيت لنفسك ما نهيته عنه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286000" y="1371600"/>
            <a:ext cx="6858000" cy="0"/>
          </a:xfrm>
          <a:prstGeom prst="line">
            <a:avLst/>
          </a:prstGeom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2743200" cy="129528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feec94"/>
            </a:solidFill>
            <a:miter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3300"/>
                </a:solidFill>
                <a:latin typeface="Times New Roman"/>
              </a:rPr>
              <a:t>من آفات اللسا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28E4-D253-44E7-81E8-9FFEED40F582}" type="slidenum">
              <a:t>26</a:t>
            </a:fld>
          </a:p>
        </p:txBody>
      </p:sp>
    </p:spTree>
  </p:cSld>
  <p:transition spd="med">
    <p:newsflash/>
  </p:transition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0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00"/>
                            </p:stCondLst>
                            <p:childTnLst>
                              <p:par>
                                <p:cTn id="84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6500"/>
                            </p:stCondLst>
                            <p:childTnLst>
                              <p:par>
                                <p:cTn id="85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7500"/>
                            </p:stCondLst>
                            <p:childTnLst>
                              <p:par>
                                <p:cTn id="86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23000"/>
                            </p:stCondLst>
                            <p:childTnLst>
                              <p:par>
                                <p:cTn id="86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28500"/>
                            </p:stCondLst>
                            <p:childTnLst>
                              <p:par>
                                <p:cTn id="87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742840" y="277560"/>
            <a:ext cx="43434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eec94"/>
                </a:solidFill>
                <a:latin typeface="Times New Roman"/>
              </a:rPr>
              <a:t>النهاية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ff"/>
                </a:solidFill>
                <a:latin typeface="Times New Roman"/>
              </a:rPr>
              <a:t>من تأمل جميع ما أوردناه من آفات اللسان علم أنه إذا أطلق لسانه لم يسلم ، وعند ذلك يعرف سر قوله</a:t>
            </a:r>
            <a:r>
              <a:rPr b="1" lang="ar-EG" sz="3600" spc="-1" strike="noStrike">
                <a:solidFill>
                  <a:srgbClr val="2dfb1d"/>
                </a:solidFill>
                <a:latin typeface="Times New Roman"/>
              </a:rPr>
              <a:t> </a:t>
            </a:r>
            <a:r>
              <a:rPr b="1" lang="ar-EG" sz="3600" spc="-1" strike="noStrike">
                <a:solidFill>
                  <a:srgbClr val="ffffff"/>
                </a:solidFill>
                <a:latin typeface="Times New Roman"/>
              </a:rPr>
              <a:t>صلى الله عليه وسلم</a:t>
            </a:r>
            <a:r>
              <a:rPr b="1" lang="ar-EG" sz="3600" spc="-1" strike="noStrike">
                <a:solidFill>
                  <a:srgbClr val="2dfb1d"/>
                </a:solidFill>
                <a:latin typeface="Times New Roman"/>
              </a:rPr>
              <a:t> ( من صمت نجا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752120" y="4267080"/>
            <a:ext cx="5791320" cy="0"/>
          </a:xfrm>
          <a:prstGeom prst="line">
            <a:avLst/>
          </a:prstGeom>
          <a:ln w="5724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286000" y="1371600"/>
            <a:ext cx="6858000" cy="0"/>
          </a:xfrm>
          <a:prstGeom prst="line">
            <a:avLst/>
          </a:prstGeom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2743200" cy="129528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feec94"/>
            </a:solidFill>
            <a:miter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3300"/>
                </a:solidFill>
                <a:latin typeface="Times New Roman"/>
              </a:rPr>
              <a:t>من آفات اللسا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66880" y="567684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952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gannatdonya@gmail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5CD4-C7CF-421B-91E0-AF3B16F83333}" type="slidenum">
              <a:t>27</a:t>
            </a:fld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90560" y="277560"/>
            <a:ext cx="5638680" cy="86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eec94"/>
                </a:solidFill>
                <a:latin typeface="Times New Roman"/>
              </a:rPr>
              <a:t>المدح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المدح له أضراره فى بعض المواضع بالنسبه للمادح وبالنسبة للممدوح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ff"/>
                </a:solidFill>
                <a:uFillTx/>
                <a:latin typeface="Times New Roman"/>
              </a:rPr>
              <a:t>بالنسبة للمادح فيضره فيما يلى</a:t>
            </a: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- قد يفرط فينتهى به إلى الكذب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- قد يدخله الرياء فيكون مرائيا منافقا  .  </a:t>
            </a: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- قد يقول ما لا يعرفه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EG" sz="3200" spc="-1" strike="noStrike" u="sng">
                <a:solidFill>
                  <a:srgbClr val="ffffff"/>
                </a:solidFill>
                <a:uFillTx/>
                <a:latin typeface="Times New Roman"/>
              </a:rPr>
              <a:t>بالنسبة للممدوح </a:t>
            </a: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- قد يحدث منه كبرا وإعجابا وهما مهلكتان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 -  قد يفرح الممدوح وهو ظالم وفاسد 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09680" y="1371600"/>
            <a:ext cx="6934320" cy="0"/>
          </a:xfrm>
          <a:prstGeom prst="line">
            <a:avLst/>
          </a:prstGeom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2743200" cy="129528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feec94"/>
            </a:solidFill>
            <a:miter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3300"/>
                </a:solidFill>
                <a:latin typeface="Times New Roman"/>
              </a:rPr>
              <a:t>من آفات اللسا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E897-BD8C-4ECD-911A-52AC19BB8CE7}" type="slidenum">
              <a:t>3</a:t>
            </a:fld>
          </a:p>
        </p:txBody>
      </p:sp>
    </p:spTree>
  </p:cSld>
  <p:transition spd="med">
    <p:newsflash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7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8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43200" y="277560"/>
            <a:ext cx="5410080" cy="78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eec94"/>
                </a:solidFill>
                <a:latin typeface="Times New Roman"/>
              </a:rPr>
              <a:t>تابع المدح</a:t>
            </a:r>
            <a:r>
              <a:rPr b="1" lang="ar-EG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2dfb1d"/>
                </a:solidFill>
                <a:latin typeface="Times New Roman"/>
              </a:rPr>
              <a:t>روى أن رجلا مدح رجلا عند النبى ، فقال له عليه الصلاة والسلام ( إن كان أحدكم لابد مادحا فليقل أحسب فلانا  ، ولا أزكى على الله أحدا ، حسيبه الله إن كان يرى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eec94"/>
                </a:solidFill>
                <a:latin typeface="Times New Roman"/>
              </a:rPr>
              <a:t>أما إذا قال رأيته يصلى ويتصدق ويحج ، فهذه أمور مستقيمة لا شيئ فيها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09680" y="1371600"/>
            <a:ext cx="6934320" cy="0"/>
          </a:xfrm>
          <a:prstGeom prst="line">
            <a:avLst/>
          </a:prstGeom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743200" cy="137160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feec94"/>
            </a:solidFill>
            <a:miter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3300"/>
                </a:solidFill>
                <a:latin typeface="Times New Roman"/>
              </a:rPr>
              <a:t>من آفات اللسا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9E66-2446-4F2F-94D6-B3E641EF2826}" type="slidenum">
              <a:t>4</a:t>
            </a:fld>
          </a:p>
        </p:txBody>
      </p:sp>
    </p:spTree>
  </p:cSld>
  <p:transition spd="med">
    <p:newsflash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7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666520" y="277560"/>
            <a:ext cx="5257800" cy="86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eec94"/>
                </a:solidFill>
                <a:latin typeface="Times New Roman"/>
              </a:rPr>
              <a:t>الغفلة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53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0000" rIns="90000" tIns="46800" bIns="46800" anchor="t">
            <a:normAutofit fontScale="82000"/>
          </a:bodyPr>
          <a:p>
            <a:pPr marL="2811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2dfb1d"/>
                </a:solidFill>
                <a:latin typeface="Times New Roman"/>
              </a:rPr>
              <a:t>الغفلة عن دقائق الخطأ فى الكلام لاسيما فيما يتعلق بالله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2dfb1d"/>
                </a:solidFill>
                <a:latin typeface="Times New Roman"/>
              </a:rPr>
              <a:t>وصفاته ، ويرتبط بأمور الدين فلا يقدر على تقويم اللفظ ف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2dfb1d"/>
                </a:solidFill>
                <a:latin typeface="Times New Roman"/>
              </a:rPr>
              <a:t> أمور الدين إلا العلماء</a:t>
            </a:r>
            <a:r>
              <a:rPr b="1" lang="ar-EG" sz="3200" spc="-1" strike="noStrike">
                <a:solidFill>
                  <a:srgbClr val="feec94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قال الرسول عليه الصلاة والسلام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( لا يقل أحدكم ماشاء الله </a:t>
            </a:r>
            <a:r>
              <a:rPr b="1" lang="ar-EG" sz="3200" spc="-1" strike="noStrike" u="sng">
                <a:solidFill>
                  <a:srgbClr val="ffffff"/>
                </a:solidFill>
                <a:uFillTx/>
                <a:latin typeface="Times New Roman"/>
              </a:rPr>
              <a:t>و</a:t>
            </a: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شئت ولكن ليقل ماشاءالله </a:t>
            </a:r>
            <a:r>
              <a:rPr b="1" lang="ar-EG" sz="3200" spc="-1" strike="noStrike" u="sng">
                <a:solidFill>
                  <a:srgbClr val="ffffff"/>
                </a:solidFill>
                <a:uFillTx/>
                <a:latin typeface="Times New Roman"/>
              </a:rPr>
              <a:t>ثم</a:t>
            </a: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 شئت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eec94"/>
                </a:solidFill>
                <a:latin typeface="Times New Roman"/>
              </a:rPr>
              <a:t>ويعنى ذلك أن حرف العطف ( و ) تعنى تشريكا وتسوية وهو على خلاف الاحترام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286000" y="1371600"/>
            <a:ext cx="6858000" cy="0"/>
          </a:xfrm>
          <a:prstGeom prst="line">
            <a:avLst/>
          </a:prstGeom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2743200" cy="137160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feec94"/>
            </a:solidFill>
            <a:miter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3300"/>
                </a:solidFill>
                <a:latin typeface="Times New Roman"/>
              </a:rPr>
              <a:t>من آفات اللسا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F135-F587-4C20-8C9B-A49EB0C9C0FD}" type="slidenum">
              <a:t>5</a:t>
            </a:fld>
          </a:p>
        </p:txBody>
      </p:sp>
    </p:spTree>
  </p:cSld>
  <p:transition spd="med">
    <p:newsflash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85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6880" y="277560"/>
            <a:ext cx="502920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eec94"/>
                </a:solidFill>
                <a:latin typeface="Times New Roman"/>
              </a:rPr>
              <a:t>سؤال العوام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0000" rIns="90000" tIns="46800" bIns="46800" anchor="t">
            <a:normAutofit fontScale="71000"/>
          </a:bodyPr>
          <a:p>
            <a:pPr marL="243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eec94"/>
                </a:solidFill>
                <a:latin typeface="Times New Roman"/>
              </a:rPr>
              <a:t>العامى يفرح بالخوض فى العلم ، إذ الشيطان يخول إليه أنه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eec94"/>
                </a:solidFill>
                <a:latin typeface="Times New Roman"/>
              </a:rPr>
              <a:t>أصبح من العلماء ومن أهل الفضل ، ولا يزال يحبب إليه فى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eec94"/>
                </a:solidFill>
                <a:latin typeface="Times New Roman"/>
              </a:rPr>
              <a:t>ذلك حتى يتكلم فى العلم بما هو كفر وهو لا يدرى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ar-EG" sz="3200" spc="-1" strike="noStrike">
                <a:solidFill>
                  <a:srgbClr val="2dfb1d"/>
                </a:solidFill>
                <a:latin typeface="Times New Roman"/>
              </a:rPr>
              <a:t>وفى الحديث نهى الرسول صلى الله عليه وسلم عن القيل والقال وإضاعة المال وكثرة السؤال 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eec94"/>
                </a:solidFill>
                <a:latin typeface="Times New Roman"/>
              </a:rPr>
              <a:t>وفى قصة موسى والخضر عليهما السلام تنبيه على المنع م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eec94"/>
                </a:solidFill>
                <a:latin typeface="Times New Roman"/>
              </a:rPr>
              <a:t> السؤال قبل أوان استحقاقه ، إذ قال تعالى (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قَالَ فَإِنِ اتَّبَعْتَنِي فَل</a:t>
            </a: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ا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 تَسْأَلْنِي عَنْ شَيْءٍ حَتَّى أُحْدِثَ لَكَ مِنْهُ ذِكْرًا</a:t>
            </a:r>
            <a:r>
              <a:rPr b="1" lang="ar-EG" sz="3200" spc="-1" strike="noStrike">
                <a:solidFill>
                  <a:srgbClr val="feec94"/>
                </a:solidFill>
                <a:latin typeface="Times New Roman"/>
              </a:rPr>
              <a:t>) الكهف:</a:t>
            </a:r>
            <a:r>
              <a:rPr b="1" lang="ar-EG" sz="3200" spc="-1" strike="noStrike">
                <a:solidFill>
                  <a:srgbClr val="feec94"/>
                </a:solidFill>
                <a:latin typeface="Times New Roman"/>
              </a:rPr>
              <a:t>7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286000" y="1371600"/>
            <a:ext cx="6858000" cy="0"/>
          </a:xfrm>
          <a:prstGeom prst="line">
            <a:avLst/>
          </a:prstGeom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2743200" cy="129528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feec94"/>
            </a:solidFill>
            <a:miter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3300"/>
                </a:solidFill>
                <a:latin typeface="Times New Roman"/>
              </a:rPr>
              <a:t>من آفات اللسا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4C09-D503-426E-BA69-4F298CF0CC96}" type="slidenum">
              <a:t>6</a:t>
            </a:fld>
          </a:p>
        </p:txBody>
      </p:sp>
    </p:spTree>
  </p:cSld>
  <p:transition spd="med">
    <p:newsflash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50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30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85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666880" y="277560"/>
            <a:ext cx="5105520" cy="86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eec94"/>
                </a:solidFill>
                <a:latin typeface="Times New Roman"/>
              </a:rPr>
              <a:t>الكلام فيما لا يعنيك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0000" rIns="90000" tIns="46800" bIns="46800" anchor="t">
            <a:normAutofit fontScale="86000"/>
          </a:bodyPr>
          <a:p>
            <a:pPr marL="294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قال الرسول صلى الله عليه وسلم ( من حسن إسلام المرء تركه مالا يعنيه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2dfb1d"/>
                </a:solidFill>
                <a:latin typeface="Times New Roman"/>
              </a:rPr>
              <a:t>إذا سألت غيرك عما لايعنيك فأنت بالسؤال مضيع وقتك ، وقد ألجأت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2dfb1d"/>
                </a:solidFill>
                <a:latin typeface="Times New Roman"/>
              </a:rPr>
              <a:t>صاحبك أيضا بالجواب إلى التضييع 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EG" sz="2800" spc="-1" strike="noStrike">
                <a:solidFill>
                  <a:srgbClr val="feec94"/>
                </a:solidFill>
                <a:latin typeface="Times New Roman"/>
              </a:rPr>
              <a:t>ولكن أن تجلس مع القوم فتذكر لهم أسفارك وما رأيت فيها من جبال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eec94"/>
                </a:solidFill>
                <a:latin typeface="Times New Roman"/>
              </a:rPr>
              <a:t>وأنهار وما وقع لك من الوقائع وما استحسنته من الأطعمة والثياب وم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eec94"/>
                </a:solidFill>
                <a:latin typeface="Times New Roman"/>
              </a:rPr>
              <a:t> تعجبت منه من مشايخ البلاد ووقائعهم . فهذه أمور لا تأثم فيها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286000" y="1371600"/>
            <a:ext cx="6858000" cy="0"/>
          </a:xfrm>
          <a:prstGeom prst="line">
            <a:avLst/>
          </a:prstGeom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2743200" cy="137160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feec94"/>
            </a:solidFill>
            <a:miter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3300"/>
                </a:solidFill>
                <a:latin typeface="Times New Roman"/>
              </a:rPr>
              <a:t>من آفات اللسا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B05C-7AE1-4FAF-9EA2-B6C003051400}" type="slidenum">
              <a:t>7</a:t>
            </a:fld>
          </a:p>
        </p:txBody>
      </p:sp>
    </p:spTree>
  </p:cSld>
  <p:transition spd="med">
    <p:newsflash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6000"/>
                            </p:stCondLst>
                            <p:childTnLst>
                              <p:par>
                                <p:cTn id="1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66520" y="277560"/>
            <a:ext cx="5257800" cy="86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eec94"/>
                </a:solidFill>
                <a:latin typeface="Times New Roman"/>
              </a:rPr>
              <a:t>فضول الكلام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قال تعالى : (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ل</a:t>
            </a: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ا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 خَيْرَ فِي كَثِيرٍ مِنْ نَجْوَاهُمْ إِ</a:t>
            </a: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لا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 مَنْ أَمَرَ بِصَدَقَةٍ أَوْ مَعْرُوفٍ أَوْ إِصْلَاحٍ بَيْنَ النَّاسِ وَمَنْ يَفْعَلْ ذَلِكَ ابْتِغَاءَ مَرْضَاةِ اللَّهِ فَسَوْفَ نُؤْتِيهِ أَجْرًا عَظِيمًا</a:t>
            </a: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 ) النساء : </a:t>
            </a:r>
            <a:r>
              <a:rPr b="1" lang="ar-EG" sz="3200" spc="-1" strike="noStrike">
                <a:solidFill>
                  <a:srgbClr val="ffffff"/>
                </a:solidFill>
                <a:latin typeface="Times New Roman"/>
              </a:rPr>
              <a:t>11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2dfb1d"/>
                </a:solidFill>
                <a:latin typeface="Times New Roman"/>
              </a:rPr>
              <a:t>وقال صلى الله عليه وسلم ( طوبى لمن أمسك الفضل من لسانه وأنفق الفضل من ماله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286000" y="1371600"/>
            <a:ext cx="6858000" cy="0"/>
          </a:xfrm>
          <a:prstGeom prst="line">
            <a:avLst/>
          </a:prstGeom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2743200" cy="137160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feec94"/>
            </a:solidFill>
            <a:miter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3300"/>
                </a:solidFill>
                <a:latin typeface="Times New Roman"/>
              </a:rPr>
              <a:t>من آفات اللسا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C1EE-9AF9-4827-B062-EB047B1A4B18}" type="slidenum">
              <a:t>8</a:t>
            </a:fld>
          </a:p>
        </p:txBody>
      </p:sp>
    </p:spTree>
  </p:cSld>
  <p:transition spd="med">
    <p:newsflash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50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219320" y="507960"/>
            <a:ext cx="183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666520" y="277560"/>
            <a:ext cx="53341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eec94"/>
                </a:solidFill>
                <a:latin typeface="Times New Roman"/>
              </a:rPr>
              <a:t>الخوض فى الباطل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وهو الكلام فى المعاصى كحكاية أحوال النساء ، ومجالس الخمروتنع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 الأغنياء ، وتجبر الملوك وأحوالهم المكروهه ، فإن كل ذلك مم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 لا يحل الخوض فيه ، وهو حرام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2dfb1d"/>
                </a:solidFill>
                <a:latin typeface="Times New Roman"/>
              </a:rPr>
              <a:t>وأما الكلام فيما لا يعنى لا تحريم فيه إنما يخشى عليه الخوض فى الباطل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eec94"/>
                </a:solidFill>
                <a:latin typeface="Times New Roman"/>
              </a:rPr>
              <a:t>وقال الرسول عليه الصلاة والسلام ( إن الرجل ليتكلم بالكلمة لا يرى بها بأسا يهوى بها فى النار سبعين خريفا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eec94"/>
                </a:solidFill>
                <a:latin typeface="Times New Roman"/>
              </a:rPr>
              <a:t>وقال صلى الله عليه وسلم ( أعظم الناس خطايا يوم القيامة أكثرهم خوضا فى الباطل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86000" y="1371600"/>
            <a:ext cx="6858000" cy="0"/>
          </a:xfrm>
          <a:prstGeom prst="line">
            <a:avLst/>
          </a:prstGeom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2743200" cy="129528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feec94"/>
            </a:solidFill>
            <a:miter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3300"/>
                </a:solidFill>
                <a:latin typeface="Times New Roman"/>
              </a:rPr>
              <a:t>من آفات اللسا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5674-5F8A-4C62-8183-83A033CF8E70}" type="slidenum">
              <a:t>9</a:t>
            </a:fld>
          </a:p>
        </p:txBody>
      </p:sp>
    </p:spTree>
  </p:cSld>
  <p:transition spd="med">
    <p:newsflash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50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700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2500"/>
                            </p:stCondLst>
                            <p:childTnLst>
                              <p:par>
                                <p:cTn id="25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8000"/>
                            </p:stCondLst>
                            <p:childTnLst>
                              <p:par>
                                <p:cTn id="25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19:35:52Z</dcterms:created>
  <dc:creator>جنات عبد العزيز</dc:creator>
  <dc:description/>
  <dc:language>en-US</dc:language>
  <cp:lastModifiedBy>Home</cp:lastModifiedBy>
  <dcterms:modified xsi:type="dcterms:W3CDTF">2005-12-20T20:17:13Z</dcterms:modified>
  <cp:revision>559</cp:revision>
  <dc:subject/>
  <dc:title>آفات اللسا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